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35D-1231-428D-93E9-1B943044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B59-1B2C-4D9A-870C-7BDA184F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A9DC1-F8E4-4AF1-A98E-ED87A205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698B1-3103-4FE2-90F0-A7367085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B6F64-5029-4D7D-AE12-FECB1138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C1836-819D-4869-96CB-ACC4E70A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2C9E4-AAB3-485E-AF21-7DB220B4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3EFAA-F73D-48BD-A0CB-9C5B7430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337DB-CB51-4717-907B-13688A22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54EE2-A02C-4B94-BAC0-FF8C17D8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3FB75-320C-4DB6-B295-5AD0E935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89C-D8CB-44A0-9DC3-2E53970F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4ED-054C-4DA3-8E81-6E3513AD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A88D-BE9A-435A-8B59-A5A38892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540D-8EBC-493F-B876-FED06AB9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986C-DC3E-45FC-9E26-536C6C11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52A2-B4E6-4A50-8F22-67C808F5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27FC-A2BE-40C1-B009-2356E927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FF1E-A63E-43F5-AC8B-D93C67C1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FB48-48EB-4A50-AE8C-4E6199D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215-6D60-4162-A1CE-8C11E51F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AA19-E668-44BC-A9CB-9528273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90B1-31E5-4985-B7DB-4516BDC3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C419-8ABA-4F06-8BE9-DA338811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21EA-3C5D-4930-A335-DF64A8E6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8D30-C408-47A3-B864-3F3F6689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DB1E-726A-4868-A0BD-C820DFC0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B373-2117-43E8-BFA2-ACB822AE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53FA-6CC8-4D26-AE9E-9B777F1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15AC-F69B-4E13-8C4F-AF7B6FC0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805A-EABD-4C8D-8261-BFB2797E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3A4-C230-4033-A832-C739A53F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79BF-13B0-4B17-A47A-4954DAEB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AADD-18D0-436F-B480-D21798FA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E619-E813-4812-9764-F028955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AD3C-D03A-4490-9960-9EEA8D43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8D8D-A3A7-4B4E-AEA4-2D628E1F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55DB-D10A-41A5-8A56-7468AB0E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5F45-38C1-4922-B74A-FF278674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2E5B-E5A2-4A56-BA28-86762A3F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6C4D-3F60-467A-A224-A2135EA3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223B0-E6C8-4794-AEFE-40636595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305-680F-4359-BCF0-DB00FDF8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CA5CE-D8D2-4844-8EB7-5400C5B2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C26AC-A7C7-494F-BD36-0EF188AF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CEB9-0872-409F-98C3-43FB5F73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8A1D-7A65-4827-82D1-B0441AC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93885-D727-4113-BF69-0FE59AB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F71E-6344-4EEC-95A7-BBC961B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54DB0-B310-4894-9FDD-33507014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FF618-9DE9-4EC2-89C9-0754BE66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8F91-071B-4976-B947-AFDE0D0E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A851-8F3A-484E-9A07-51EDADE4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D9B-897C-441C-88C6-243588FD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A6225-ADD8-41DF-9695-6AF575F7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5CBD9-ADC8-4534-926C-AC7B59BA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9C94-4E93-4C8D-A824-D10E9DD2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38CEC-09FF-49B4-A429-354B35E9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A2789-AE71-4AC7-921F-9F0190DD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E8DB3-C49F-4C33-989B-9BD0D99E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698C4-7735-455C-8114-C264CDCE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6B6E-E006-4F14-9D74-50E00C4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C362D-2057-4E60-81BF-BC0E4763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465A-D8C9-4F89-ACAF-9B9D27E5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D1C-13EA-499B-8963-E35FF04A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A9C33-DBB2-4993-A2F1-3C9523E8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70DDD-87EE-4216-AD7B-3D381A76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0E35-60B6-4103-B684-1767DA1C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B8236-DB1A-4D06-B2CE-D8A8091A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F934-4BB2-4AA3-A29C-7A0D1383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31C0B-1131-47F7-9D23-87B7A71F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295B-5A2B-49A8-8103-761BFD92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551C0-52EE-4D38-98E5-EBA46ACF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A7B19-D1A2-48CE-8CCB-34E8B420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DA33-6490-496D-B94F-A3727D0E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20E-7223-4AA1-8DF6-A3421030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974D-A79A-4654-AB6C-D3E9B650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93C7-F3ED-491D-96CA-E51F7349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5B154-F3A9-406B-9339-2B8BA151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D8BB8-EAB7-46AA-A863-9D4C06ED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E910-1CD0-473C-980C-B351AAA7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20212-0D40-4F81-B39A-E99743CD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314C0-9AEB-4A30-810A-003D2467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EA576-C9D6-4B36-85AA-51EB21A0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AC3E5-DEE3-4EB5-A3A9-17C4E42C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5DD6-10B1-41F6-BD02-20A23D90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CB6-3052-4727-BC64-C7D89594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8F72A-26CE-477B-A4FE-17F4257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699FF-2E25-4234-9046-2320DD1A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10991-8807-4588-B592-561A941E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17973-E859-45D8-8718-4B649922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CEF16-F6BC-429B-9415-3DB043BD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92969-84F1-427B-8429-E3A8CD57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A8398-A788-4341-B297-7D8876FF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69576-4881-4626-A002-CB14C547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A85B7-8988-4AF3-9A7E-5ED910FB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8A6BF-5529-423D-836D-94C5FDBC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64C-6664-41B0-86D7-37538965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11AC8-0C7C-4C87-BCD4-57FF3167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70AB7-F6F0-4654-818B-1F51783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738FC-FBAD-49CB-AE5B-6D761EA3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56336-6BAC-499E-BC32-3791397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482B1-EB8D-4521-A4BE-E0D8B04F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87E6A-F69F-4F77-8BBD-09D976E6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E0B88-4A7D-4085-8148-A43E9B5F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D0AB3-AF6B-4829-9165-1EC2D6ED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8FD23-1773-42A7-B80B-1FA5C513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80EC1-C365-49C5-9708-BCA02D5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35DF-12B4-416F-8E15-282B2D07713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BAB1-6B8E-411F-B94E-628014D4A7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9731-661D-413C-9972-D413568387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9D2C-24E7-444B-9DE5-E402C24876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444C-EE30-4722-87F4-286D1D862A5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FC65-2931-4781-BD5D-52C13D0184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0B4-201D-42C0-8B46-172AFD84A2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D0FD-820F-4CCC-BFA5-93E154E43A0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370A-3D7E-49FB-A6D3-C6A61818EB3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Diagram 3" descr=""/>
          <p:cNvPicPr/>
          <p:nvPr/>
        </p:nvPicPr>
        <p:blipFill>
          <a:blip r:embed="rId2"/>
          <a:stretch/>
        </p:blipFill>
        <p:spPr>
          <a:xfrm>
            <a:off x="1504800" y="1390680"/>
            <a:ext cx="6134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Diagram 3" descr=""/>
          <p:cNvPicPr/>
          <p:nvPr/>
        </p:nvPicPr>
        <p:blipFill>
          <a:blip r:embed="rId2"/>
          <a:stretch/>
        </p:blipFill>
        <p:spPr>
          <a:xfrm>
            <a:off x="225360" y="1432080"/>
            <a:ext cx="8925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Diagram 3" descr=""/>
          <p:cNvPicPr/>
          <p:nvPr/>
        </p:nvPicPr>
        <p:blipFill>
          <a:blip r:embed="rId2"/>
          <a:stretch/>
        </p:blipFill>
        <p:spPr>
          <a:xfrm>
            <a:off x="-6480" y="755640"/>
            <a:ext cx="893124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at is the function of DNA Polymerase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 DNA replication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2:18:18Z</dcterms:created>
  <dc:creator>LL4</dc:creator>
  <dc:description/>
  <dc:language>en-US</dc:language>
  <cp:lastModifiedBy>LL4</cp:lastModifiedBy>
  <dcterms:modified xsi:type="dcterms:W3CDTF">2009-12-20T23:17:14Z</dcterms:modified>
  <cp:revision>7</cp:revision>
  <dc:subject/>
  <dc:title>Slide 1</dc:title>
</cp:coreProperties>
</file>